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958-4A2C-48AD-9D9D-7B275E8D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840-8ACD-4C0A-9944-CF8C8589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9A1-2A53-48D8-8636-90A59E09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8A7-17EE-471A-A9EB-BABBB7ED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122B-981A-493A-947B-ABA5BAD4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2DF9-981F-4F7C-94AE-D861595A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423E-1774-419B-83A0-81098480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79BE-09BC-4EDE-B9D5-7D8F2177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8033-1F72-4878-89B5-4360A35C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3601-C099-4509-89C9-F96B82F6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71D5-B8DD-4408-9317-6E87532F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20F-615F-4130-B116-22A33097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025E-3E9C-4346-8814-E7B78376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7D57-C10B-4CD4-AF1C-EC699CE7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16B8-4C0C-4001-8B48-528AC9F7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3456-BD5B-4112-A543-DC379249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29E1-C5A9-486F-AAE8-5258B591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570-585F-4A47-A153-6BC7DA24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FB9-E483-4DD0-BBE2-46EA5D3C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A29-8BBA-4A4D-9479-47E32059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087-8923-4A34-8980-7681ED81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C0D-E848-45A6-B9B6-383EEF65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089-19EC-4CE2-BC6A-7ECB24BA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8F4-9A4C-4956-8D26-1F77BB9D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0AFB-D6D6-460D-B23C-C4CDC4CBC2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033D-180D-4AD0-8C3B-88729C69D4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33160" y="3047760"/>
            <a:ext cx="65530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ппам предлагается выбор карточек с изображение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е: необходимо приобрести комплексный обед по наиболее выгодной цене из трех составляю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091bac3f57cfa048aa9e88e8c0388d8768429a82"/>
          <p:cNvPicPr/>
          <p:nvPr/>
        </p:nvPicPr>
        <p:blipFill>
          <a:blip r:embed="rId1"/>
          <a:stretch/>
        </p:blipFill>
        <p:spPr>
          <a:xfrm>
            <a:off x="228600" y="152280"/>
            <a:ext cx="3429000" cy="26384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447920" y="1676160"/>
            <a:ext cx="678168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Times New Roman"/>
                <a:ea typeface="Calibri"/>
              </a:rPr>
              <a:t>«Обед в столовой»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4"/>
          <p:cNvSpPr/>
          <p:nvPr/>
        </p:nvSpPr>
        <p:spPr>
          <a:xfrm>
            <a:off x="4305240" y="304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е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5" descr="medium_2bc5e69f-e58d-4acd-a974-871851994547.jpg"/>
          <p:cNvPicPr/>
          <p:nvPr/>
        </p:nvPicPr>
        <p:blipFill>
          <a:blip r:embed="rId1"/>
          <a:stretch/>
        </p:blipFill>
        <p:spPr>
          <a:xfrm>
            <a:off x="4343400" y="3340080"/>
            <a:ext cx="4800600" cy="35179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1600200" y="1066680"/>
            <a:ext cx="6781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3000"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Times New Roman"/>
                <a:ea typeface="Calibri"/>
              </a:rPr>
              <a:t>«Первые блюд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28600" y="1865160"/>
            <a:ext cx="84582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ольник «Ленинградский»  (250 г.) – 30.00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п-пюре с грибами (250 г.) – 28.00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рний су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(250 г.) – 25.00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4" descr="Картофельное-пюре.jpg"/>
          <p:cNvPicPr/>
          <p:nvPr/>
        </p:nvPicPr>
        <p:blipFill>
          <a:blip r:embed="rId1"/>
          <a:stretch/>
        </p:blipFill>
        <p:spPr>
          <a:xfrm>
            <a:off x="0" y="3032280"/>
            <a:ext cx="5508720" cy="36734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4305240" y="304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е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600200" y="1066680"/>
            <a:ext cx="6781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3000"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Times New Roman"/>
                <a:ea typeface="Calibri"/>
              </a:rPr>
              <a:t>«Вторые блюд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28600" y="1865160"/>
            <a:ext cx="84582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инина по-французски (110 г.) – 67.00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лет куриный (150 г.) – 58.00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щное раг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200 г.) – 55.00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5"/>
          <p:cNvSpPr/>
          <p:nvPr/>
        </p:nvSpPr>
        <p:spPr>
          <a:xfrm>
            <a:off x="4305240" y="304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е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600200" y="1066680"/>
            <a:ext cx="6781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3000"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Times New Roman"/>
                <a:ea typeface="Calibri"/>
              </a:rPr>
              <a:t>«Десер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7" descr="picca_s_ananasom_i_krabovym_myasom.jpg"/>
          <p:cNvPicPr/>
          <p:nvPr/>
        </p:nvPicPr>
        <p:blipFill>
          <a:blip r:embed="rId1"/>
          <a:stretch/>
        </p:blipFill>
        <p:spPr>
          <a:xfrm>
            <a:off x="0" y="3857760"/>
            <a:ext cx="4495680" cy="30002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228600" y="1865160"/>
            <a:ext cx="84582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ао с пончиком – 21.00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от с кексом – 18.00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й с ватрушко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13.00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4T14:13:42Z</dcterms:created>
  <dc:creator>1</dc:creator>
  <dc:description/>
  <dc:language>en-US</dc:language>
  <cp:lastModifiedBy>ADMIN</cp:lastModifiedBy>
  <dcterms:modified xsi:type="dcterms:W3CDTF">2020-10-04T13:56:0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